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D12-9C1C-4F81-A37E-D54751A3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022-6993-4314-BE38-15DA710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2B3-C4DC-42A0-A66C-9F0CBBED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6DE-17F7-4AA6-B6F8-D268B8B7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4410-CC35-4E98-8BE4-A03F121D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146E-FBE3-4376-A45E-B787BCE2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7B3-EB6D-4A55-BD8D-B07CFC6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E36-CFF2-40C3-9978-F0BFA54D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C38-2067-4F47-9DBC-35AFF13B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E7D5-A4B7-4602-A775-EADB05C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EFC4-3D68-4AB5-B9EC-DB26A7F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CDE-22E3-4BD4-8C21-C2FB3794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B794-FAF6-4012-95C1-C9A3FE0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853A-511B-45E0-BF03-E0DDC78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779D-BBA9-4AB7-B2A6-A712B17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90CA-7A96-40AE-AD15-165495A7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867-4C63-4F50-ACD2-A5849F4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E3F-6D7D-4D4E-9CD1-F07DE18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532-3CD8-40CA-806F-97C5793E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D46-D4C9-4EC0-A4F8-52665E1B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F53-3A3F-41A5-A785-D70EB15C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18B-86B0-4080-B037-7CEC7554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958-41DB-4B5E-804A-67BB0BF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772-E469-4B71-9BFB-E7ABD39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8C99-5919-4BE1-8FA7-CBCA304ED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A426-62E1-4202-8380-3E57C5679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0"/>
            <a:ext cx="7848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washshah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Ay, quien me diera esa cierva que 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su mejilla una rosa entre sierp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ánguidos ojos me hier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allo consuelo en su talle gall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 en su esbeltez, si me ayudan mis h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se, rendido, a sus pies mi mejill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o crecióse en orgullo y mali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dijo, al ver que mi llanto corr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«¿Dónde aprendiste ese amor extremado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ije: · En tus ojos lección he tomado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404640"/>
            <a:ext cx="57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89000"/>
            <a:ext cx="6337440" cy="9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 replicó, y me dejó de una pieza «¿En acusar a mis ojos no cejas?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- le corté -, no por Dios, no te of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he de mentar, si no quieres, mi agrav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a soy muslim convertido, y no m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Tú, cuyos ojos al ciervo le afrent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que a la hurí con tu talle supe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cuya luz a las vistas aneg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redo secreto. es tu amor, y es, ar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e de tenerlo por siempre guardad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26028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Oh tú más bello de todos los se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 corazón va en pos tuyo, y no vu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Óyele cuando de ausencia se du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AR KOM LEBARE DAL-GAIBA NON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YA WELIYOS DE L ASIQA, SIN NON 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Í CÓMO SOPORTAR ESTA AUSENCIA. ¡NO TAN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AY DE LOS OJOS DE LA ENAMORADA, SI NO ESTÁS T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47:02Z</dcterms:created>
  <dc:creator> </dc:creator>
  <dc:description/>
  <dc:language>en-US</dc:language>
  <cp:lastModifiedBy>-</cp:lastModifiedBy>
  <dcterms:modified xsi:type="dcterms:W3CDTF">2008-10-06T23:25:36Z</dcterms:modified>
  <cp:revision>5</cp:revision>
  <dc:subject/>
  <dc:title>Diapositiva 1</dc:title>
</cp:coreProperties>
</file>